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png" ContentType="image/png"/>
  <Override PartName="/ppt/media/image8.jpeg" ContentType="image/jpeg"/>
  <Override PartName="/ppt/media/image38.png" ContentType="image/png"/>
  <Override PartName="/ppt/media/image9.png" ContentType="image/png"/>
  <Override PartName="/ppt/media/image34.png" ContentType="image/png"/>
  <Override PartName="/ppt/media/image31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33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13.png" ContentType="image/png"/>
  <Override PartName="/ppt/media/image1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E424-25E1-4D5F-8FCF-BEA5F7D8A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C7E9-19A6-442A-B88C-BD443109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B58F-EF4C-4970-8672-55B18956E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AD61-9586-46DA-BBD4-5269D8D74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38A9-CBAF-4610-B9C7-858E2C4B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8A34-CA14-4081-87B9-6F7C4C9A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1EE0-25E4-4D73-A4DD-C3FE0CEC1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9895-2D4A-439E-893A-5092F9C7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12BE-E00E-4BE7-9BE9-F7873397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0CC7-D3AE-4A80-8FC7-F7D75374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0948-454C-45E6-85B0-F281A267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8374-C797-46E0-A884-B1E6591F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CC6A-94DC-4A53-ACB8-54089B01B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mathematicsworld.blogspot.com/2010/06/line-design_18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ermes-jo.com/line-designs-math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ykhmsmathclass.blogspot.com/2010/06/line-designs-by-sahil-10d.html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hermes-jo.com/line-designs-math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doversherborn.comcastbiz.net/highschool/academics/math/baroody/GeometryHonors/Class%20Notes/Chapter%201/Lesson1-4/Lesson1-4.html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deimel.org/rec_math/family_1.htm" TargetMode="External"/><Relationship Id="rId2" Type="http://schemas.openxmlformats.org/officeDocument/2006/relationships/hyperlink" Target="http://deimel.org/rec_math/circular_1.htm" TargetMode="External"/><Relationship Id="rId3" Type="http://schemas.openxmlformats.org/officeDocument/2006/relationships/hyperlink" Target="http://deimel.org/rec_math/general_01.htm" TargetMode="External"/><Relationship Id="rId4" Type="http://schemas.openxmlformats.org/officeDocument/2006/relationships/hyperlink" Target="http://deimel.org/rec_math/cube.htm" TargetMode="External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ykhmsmathclass.blogspot.com/2010/06/line-designs-by-sahil-10d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Line%20design%20creation.pps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athematicsworld.blogspot.com/2010/06/line-design_18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stellar"/>
              </a:rPr>
              <a:t>Line Desig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1 – Strategies in M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 page: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athematicsworld.blogspot.com/2010/06/line-design_18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066680" y="1066680"/>
            <a:ext cx="662940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 Page: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ermes-jo.com/line-designs-ma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905120" y="1066680"/>
            <a:ext cx="5562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designs are made by pencil…</a:t>
            </a:r>
            <a:br>
              <a:rPr sz="3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 Page: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ykhmsmathclass.blogspot.com/2010/06/line-designs-by-sahil-10d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219320" y="121932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ome designs are computer generated…</a:t>
            </a:r>
            <a:br>
              <a:rPr sz="28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Source Page: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ermes-jo.com/line-designs-ma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286000" y="1523880"/>
            <a:ext cx="4786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 Page: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oversherborn.comcastbiz.net/highschool/academics/math/baroody/GeometryHonors/Class%20Notes/Chapter%201/Lesson1-4/Lesson1-4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676520" y="1600200"/>
            <a:ext cx="579420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re are some of the same patterns with different measurements or col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308320" y="1881360"/>
            <a:ext cx="4244760" cy="42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190600" y="8190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90600" y="8190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90600" y="8190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190600" y="8190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 designs are created by drawing straight line segments evenly spaced ap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90600" y="8190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190600" y="8190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190600" y="8190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190600" y="8190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xt slides are nested squares. You can see how the picture changes when you only connect some of the segme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190600" y="8190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90600" y="8190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190600" y="8190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190600" y="8190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190600" y="8190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ame that holds the lines are usually ang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190600" y="8190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190600" y="8190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190600" y="8190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190600" y="819000"/>
            <a:ext cx="47628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then there are circl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547056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5486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53337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23880" y="1219320"/>
            <a:ext cx="61722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1703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ly, the straight lines seem to form a curve or parabolic sh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then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14680" y="2266920"/>
            <a:ext cx="571500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69343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629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52480" y="152280"/>
            <a:ext cx="56818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62485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 for watch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ve Stitch Designs: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deimel.org/rec_math/family_1.htm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rcular designs: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deimel.org/rec_math/circular_1.htm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lizations: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deimel.org/rec_math/general_01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ve Stitch Isometric Cube: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deimel.org/rec_math/cube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acquired through Bing Search for Line designs, Line Designs Geometry, and Line Designs in M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4495680" y="1600200"/>
            <a:ext cx="434340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times the angles are alone…</a:t>
            </a:r>
            <a:br>
              <a:rPr sz="40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thelinedesigners.blogspot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411480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times the angles are combined…</a:t>
            </a:r>
            <a:br>
              <a:rPr sz="36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ource Page: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ykhmsmathclass.blogspot.com/2010/06/line-designs-by-sahil-10d.htm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057400" y="1371600"/>
            <a:ext cx="477216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re is a look at the process used to create a line desig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ine Design Cre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pages will show you some of the different designs made with straight lin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e Design by ~kaprkorn on devian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525780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Source Page: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athematicsworld.blogspot.com/2010/06/line-design_18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670536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00:04:15Z</dcterms:created>
  <dc:creator>JKuhowski</dc:creator>
  <dc:description/>
  <dc:language>en-US</dc:language>
  <cp:lastModifiedBy>JKuhowski</cp:lastModifiedBy>
  <dcterms:modified xsi:type="dcterms:W3CDTF">2013-03-15T09:18:20Z</dcterms:modified>
  <cp:revision>15</cp:revision>
  <dc:subject/>
  <dc:title>Line Art Design by ~Atombombday on deviantART</dc:title>
</cp:coreProperties>
</file>